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CA2-3C5D-47DE-B5AD-EFF11063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CA7-1DFE-409B-902D-7E7DB5A0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B2F-522A-40E8-B1A8-58342892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6B2-DC8A-4D59-8BF1-EBB5AA7A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29C-DCAB-4C02-B5AA-5D5F11A3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8E7-BDE0-4B79-8BEA-8CA2A0A5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657-8D44-4394-8FFC-4C72B5F9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AF6-381C-4580-BF01-66D4B38E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B37-7411-488F-9155-3ACA2FE9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900-93E1-4FBF-86AB-BDB8AEC3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F82-6A21-464C-839B-D17B5F2D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143-6CCE-4B25-AE92-B7CEC7B6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3C51-1014-4572-83FF-EA5955CD5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 Guide 6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38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work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14300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ll, work is th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roduct of force and distance.  Hu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work is when some objec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s moved (force) from on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ea to another (dist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362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for work to be done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force must be in th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ame direction the object moves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0481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:  pushing a car down the road =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rce is in the same direction as the car i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8098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IMPOR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RE IS NO MOVEMENT </a:t>
            </a:r>
            <a:r>
              <a:rPr b="0" i="1" lang="en-US" sz="2400" spc="-1" strike="noStrike">
                <a:solidFill>
                  <a:srgbClr val="996600"/>
                </a:solidFill>
                <a:latin typeface="Times New Roman"/>
              </a:rPr>
              <a:t>AT ALL, THERE IS NO WORK.  ALSO, AT LEAST SOME OF THE FORCE MUST BE IN SAME DIRECTION AS OBJECT 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so, the par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f the force which is not acting in the same direction of the movement is NOT doing work on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work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7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ng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 can find out how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uch work is being done when a force moves an object a certain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1337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2743200"/>
            <a:ext cx="693432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weightlifter lifts a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1600-newton barbell over his head 2 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1600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x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2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996600"/>
                </a:solidFill>
                <a:latin typeface="Times New Roman"/>
              </a:rPr>
              <a:t>3200 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M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joules = unit of measure for 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9144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ower i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ow fast the work gets 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44792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x:  shoveling snow.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hether a snow blower or a shovel is used to do a 10 foot sidewalk does not change how much work is done.  If the snow blower does do the work faster, than it has more power than the sho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971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35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T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380988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ce of 72 N to push a box 1 M in 2 seco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(?) =  Work (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72 N x 1 M)  / 2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(?) = Work (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72 j) / 2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=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36 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atts is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unit of measure for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2:22:57Z</dcterms:created>
  <dc:creator>jpak</dc:creator>
  <dc:description/>
  <dc:language>en-US</dc:language>
  <cp:lastModifiedBy>Farwell Area Schools</cp:lastModifiedBy>
  <dcterms:modified xsi:type="dcterms:W3CDTF">2009-03-04T19:30:39Z</dcterms:modified>
  <cp:revision>10</cp:revision>
  <dc:subject/>
  <dc:title>Note Guide 6-1</dc:title>
</cp:coreProperties>
</file>